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DF49-400A-4A88-A1F5-41758F962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6F32-F05B-4896-BDEA-658868A53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D6F-07A0-4901-9C5A-2462B05C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180-77D2-4BEB-957F-EC262E5D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740-CFBD-4995-A0F0-2BC50C76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AF4-45CE-4056-BCBE-0D76B7A9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054-D850-4CC3-85A4-B4C83A81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94F-272E-493C-AAE5-68EDE224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32F-3763-4F14-8F94-57CE5755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CFA-4616-465B-B2A1-4E9D8BCE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42F-9186-4E07-8EC3-CDEA30EF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BEB-BE5F-4988-935E-24E01402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960-9829-40E4-A241-D5DDAFEA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CC1-4FBA-43C7-9444-1755FAF6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7B92-69DC-4C3E-961B-10DE6E80F0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CE30-8039-4640-B8B1-68B2512E6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1640" y="856800"/>
            <a:ext cx="407196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inDeveloper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F Tune v4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E55F-5CAA-4E70-8C70-1B1730260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38132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Boxrender Blau.png"/>
          <p:cNvPicPr/>
          <p:nvPr/>
        </p:nvPicPr>
        <p:blipFill>
          <a:blip r:embed="rId2"/>
          <a:stretch/>
        </p:blipFill>
        <p:spPr>
          <a:xfrm>
            <a:off x="0" y="112536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ite/Black L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te/Black lists for IP, Sender, Recipient, Subject and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nguage (character set) based black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nder and Recipient lists support the * wildcard: *@windeveloper.com, *@*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bject and Body lists support AND, OR, NOT operators and double qu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0E3E-AFE4-457C-8013-4B33D0434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tering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st all kind of email characteristics to selectively identify spam and legitimate em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ree Rule types: Simple, Advanced and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ule Actions: Whitelist, Blacklist, Set SCL to any value, Increment/Decrement current SCL r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8BB6-AD2D-428D-AF36-F83D2B495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mple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posed of a condition/action 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st conditions against standard/custom headers, IP, sender/recipient addresses and bo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ur possible matching oper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ader value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ader exact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eywords within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mpty/Missing H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CEAB-F83F-4123-9906-7CE564A04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ternal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ame as Simple Rules, but the values to be matched are retrieved from an external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at for hosting external white/black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ing shared drives, the file can be read from multiple IMF Tune instal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ssibility to integrate external sources of information (a script reading addresses from Active Directo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9FEC-6930-45C0-9CE5-3478BD911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dvanced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bine a number of conditions and exceptions to be satisfied into one r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ch condition/exception tests one piece of information (header, email address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l Conditions MUST match, but Exceptions MUST NOT match for the Action to be appli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ssibility to test email properties not available in IMF Tune from anywhere el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ECDB-12E2-4A7A-9DE4-52E834321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dvanced Rules (Condition Typ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lter foreign spam by character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lock empty bodied PDF/Image sp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lter emails by attachment name, extension or MIME content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lter by SMTP protocol data: IP, EHLO, MAIL FROM, RCPT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tch Custom Headers to integrated other spam fil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8A22-7250-469D-ABBC-7FC8ADAB6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TML Keyword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e exactly how emails are matching whitelists, blacklists and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port shows what is configured at IMF Tune and how this matched an 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utomatic backup and deletion of old reports through Disk Mainte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CD1E-1A56-4E11-B3A1-BECB55920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k Mainte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process that controls the consumption of HDD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hedule for the backup of Archived Emails, CSV logs and HTML Keyword Re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letion of old Backup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79BB-C7B8-48FC-AF14-383B972E0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F Tune Homepage/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windeveloper.com/imftun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F Tune Video Tutori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windeveloper.com/imftune/tutor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BB0D-8E4E-439C-9181-89808B5C5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28760" y="4286160"/>
          <a:ext cx="8001000" cy="1189080"/>
        </p:xfrm>
        <a:graphic>
          <a:graphicData uri="http://schemas.openxmlformats.org/drawingml/2006/table">
            <a:tbl>
              <a:tblPr/>
              <a:tblGrid>
                <a:gridCol w="3894120"/>
                <a:gridCol w="4106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es/Licens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es@windeveloper.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@windeveloper.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IMF Tu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407196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anti-spam product building on top of the Exchange 2003 Intelligent Message Filter (IMF)/Exchange 2007 Conten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0561-5EED-44D3-B837-0D65A67D5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image00-imftuneplan.gif"/>
          <p:cNvPicPr/>
          <p:nvPr/>
        </p:nvPicPr>
        <p:blipFill>
          <a:blip r:embed="rId1"/>
          <a:stretch/>
        </p:blipFill>
        <p:spPr>
          <a:xfrm>
            <a:off x="1785960" y="1285920"/>
            <a:ext cx="5581800" cy="2695680"/>
          </a:xfrm>
          <a:prstGeom prst="rect">
            <a:avLst/>
          </a:prstGeom>
          <a:ln w="3240">
            <a:solidFill>
              <a:srgbClr val="1025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ick Look at Exchange 2007 Content Filter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53BF-C5DE-4204-85BA-F1BF3783E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642960" y="1785960"/>
            <a:ext cx="4186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ust be run on Edge or Hub Transport Server R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ent Filter assigns initial SCL. IMF Tune updates this r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lete, Reject and Quarantine actions should be kept disabled. Perform gateway blocking at IMF Tu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ontent Placeholder 11" descr="image01-ex2007_imf.bmp"/>
          <p:cNvPicPr/>
          <p:nvPr/>
        </p:nvPicPr>
        <p:blipFill>
          <a:blip r:embed="rId1"/>
          <a:stretch/>
        </p:blipFill>
        <p:spPr>
          <a:xfrm>
            <a:off x="4929120" y="1860480"/>
            <a:ext cx="34290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and Exchange 2003 IM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1500120"/>
            <a:ext cx="400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d with Exchange 2003 SP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F assigns the initial SCL. IMF Tune updates this r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eep gateway blocking to No Action. Perform gateway blocking at IMF Tu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3F40-7F2D-4888-B184-0B6C5138C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image02-ex2003_imf.bmp"/>
          <p:cNvPicPr/>
          <p:nvPr/>
        </p:nvPicPr>
        <p:blipFill>
          <a:blip r:embed="rId1"/>
          <a:stretch/>
        </p:blipFill>
        <p:spPr>
          <a:xfrm>
            <a:off x="4929120" y="1643040"/>
            <a:ext cx="343872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F Tune Function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ultiple Threshold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mail Disk Arch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V Log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uto-Re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arious White/Black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mple, Advanced and External SCL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ML Keyword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k Mainte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EB51-F430-4D26-886F-19569C2AB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ple Threshold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EB41-9534-44F7-869F-BC98B381A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428760" y="14288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up any number of threshold actions to identify how emails are to be handl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shold range includes SCL 0 to 9, Whitelisted, Blacklisted and Unprocessed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ving emails to Junk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rantine to Central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ail Re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IMF Tune thresholds"/>
          <p:cNvPicPr/>
          <p:nvPr/>
        </p:nvPicPr>
        <p:blipFill>
          <a:blip r:embed="rId1"/>
          <a:stretch/>
        </p:blipFill>
        <p:spPr>
          <a:xfrm>
            <a:off x="5000760" y="1500120"/>
            <a:ext cx="3743280" cy="3409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ple Threshold Actions (contd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selection of additional email modific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sertion of SCL in Subject/X-SCL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ttachment Strip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sertion of Email information in Custom H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B8C9-7B2B-4A06-AA8F-3E91600F5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mail Disk Arch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matter how emails are handled a copy can be saved to the disk Arch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en Rejected Emails may be Archiv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eak archives by SCL r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utomatic backup and deletion of old emails through Disk Mainte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ubmit Emails through Exchange 2003 Pickup/Exchange 2007 Replay direc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6FAF-BF2C-459F-A582-4163A8700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SV Log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cord key information on processed emails including email addresses, subject, IP, SCL and applied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ndard CSV format for easy import to MS Excel and MS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eak logs by date, file size and SCL r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utomatic backup and deletion of old logs through Disk Mainte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7EDD-CF22-4329-8C49-8CEC6231D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9:34:02Z</dcterms:created>
  <dc:creator>Administrator</dc:creator>
  <dc:description/>
  <dc:language>en-US</dc:language>
  <cp:lastModifiedBy>Alexander Zammit</cp:lastModifiedBy>
  <dcterms:modified xsi:type="dcterms:W3CDTF">2008-09-06T15:57:40Z</dcterms:modified>
  <cp:revision>74</cp:revision>
  <dc:subject/>
  <dc:title>WinDeveloper IMF Tune</dc:title>
</cp:coreProperties>
</file>