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759-87FA-4FA5-BCAF-E406FF57D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34EB-F2B1-4001-AC51-79163FC20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9DD-69A6-4F9F-AC0E-675AD72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68B-CDC4-48FB-A35B-CCBE0C9F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8EA-B044-4AD4-8F61-3C7565EF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ACE-8916-4431-9E78-99385724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AD0-33CA-4610-AD41-7E20EC70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F13-2953-435D-9A1E-CEE7FA5C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9ED-1EAC-4A01-A094-CACEC8FB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AC9-A05F-4B30-A58F-9E7581AC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B21-DCD7-4E7C-9053-7871CF98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11F-89EC-408A-B4B2-A5E31DC8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D64-E16B-4E38-A78A-913F29B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ADF-521C-408E-8678-5413D266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8CCA-26BF-4F49-8FDD-BAF68F578E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6D6D-27AE-460E-AFC9-B1D783C6B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deplex.com/imfam" TargetMode="External"/><Relationship Id="rId2" Type="http://schemas.openxmlformats.org/officeDocument/2006/relationships/hyperlink" Target="http://stoekenbroek.com/imfcompanion/default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deplex.com/imfa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381320" cy="47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Boxrender Blau.png"/>
          <p:cNvPicPr/>
          <p:nvPr/>
        </p:nvPicPr>
        <p:blipFill>
          <a:blip r:embed="rId2"/>
          <a:stretch/>
        </p:blipFill>
        <p:spPr>
          <a:xfrm>
            <a:off x="0" y="1125360"/>
            <a:ext cx="6072120" cy="455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1640" y="1285920"/>
            <a:ext cx="407196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 v4 Quarantine – Reviewing &amp; Resubmitting Archived Email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45F4-FE7E-4B14-94CF-BE6DD68F8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change 2007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Exchange 2007 emails are resubmitted through the REPLAY folder and not the PICKUP fold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lt;Exchange dir.&gt;\TransportRoles\Re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sed on our testing on Windows 2008 in case User Account Control is enabled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Companion v1.15.6 does not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Archive Manager works only if using ‘Run as Administrator’ func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548-AD17-44A3-A4FC-54BC5FF02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change 2007 Content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of Quarantine, Delete and Reject actions should be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F Tune will perform any Gateway Blocking and Archiving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74D6-7A68-4514-BA8C-2E08A6D8B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image06_ex07.bmp"/>
          <p:cNvPicPr/>
          <p:nvPr/>
        </p:nvPicPr>
        <p:blipFill>
          <a:blip r:embed="rId1"/>
          <a:stretch/>
        </p:blipFill>
        <p:spPr>
          <a:xfrm>
            <a:off x="4500720" y="1357200"/>
            <a:ext cx="41954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FD62-E243-4ABD-A486-D2B6E3F9C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017720"/>
            <a:ext cx="82296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Homepage/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windeveloper.com/imftun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Tune Video Tutori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windeveloper.com/imftune/tuto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Archive Manag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codeplex.com/imf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F Compan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stoekenbroek.com/imfcompanion/defaul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28760" y="5143680"/>
          <a:ext cx="8001000" cy="1071360"/>
        </p:xfrm>
        <a:graphic>
          <a:graphicData uri="http://schemas.openxmlformats.org/drawingml/2006/table">
            <a:tbl>
              <a:tblPr/>
              <a:tblGrid>
                <a:gridCol w="3894120"/>
                <a:gridCol w="410688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es/Licen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es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@windeveloper.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arantine System runs on Exchange 2003 or Exchange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F Tune archives and manages disk space through automatic compression, backup and deletion of old f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ol: IMF Archive Manager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odeplex.com/imf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ol: IMF Companion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toekenbroek.com/imfcompanion/default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0953-0CB7-40D2-8492-AD11A91AB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change 2003 IMF Set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able IMF Gateway Blocking at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F Tune will perform any Gateway Blocking and Archiving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E43F-D8E1-4506-8865-9C051C9DA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mage01_ex03.bmp"/>
          <p:cNvPicPr/>
          <p:nvPr/>
        </p:nvPicPr>
        <p:blipFill>
          <a:blip r:embed="rId1"/>
          <a:stretch/>
        </p:blipFill>
        <p:spPr>
          <a:xfrm>
            <a:off x="4429080" y="1643040"/>
            <a:ext cx="38480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Tune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F Tune allows archiving even in case of rejected ema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 configuring Archiving enable: 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SMTP Sender, Recipients, IP and HELO to archived emails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0CE9-403C-46B3-B0FD-ECF1128D8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image02_archive_profile.bmp"/>
          <p:cNvPicPr/>
          <p:nvPr/>
        </p:nvPicPr>
        <p:blipFill>
          <a:blip r:embed="rId1"/>
          <a:stretch/>
        </p:blipFill>
        <p:spPr>
          <a:xfrm>
            <a:off x="4243320" y="1643040"/>
            <a:ext cx="46436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MF Tune Configuration (contd.) Archive Mainte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rchive Maintenance limits disk consumption by compressing, backing-up and deleting old ema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ministrator focuses on emails archived in the last x d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F9E-15C9-4DAF-899A-85E5AA5CE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mage03_archive_main.bmp"/>
          <p:cNvPicPr/>
          <p:nvPr/>
        </p:nvPicPr>
        <p:blipFill>
          <a:blip r:embed="rId1"/>
          <a:stretch/>
        </p:blipFill>
        <p:spPr>
          <a:xfrm>
            <a:off x="4500720" y="1643040"/>
            <a:ext cx="43146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ubmit Email for Deli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Exchange 2003, resubmit an archived emails by moving file to Pickup located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lt;Exchange dir.&gt;\Mailroot\vsi 1\Pi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F Archive Manager and IMF Companion provide a UI for reviewing and resubmitting emai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oth tools require us to configure the path to the IMF Tune Archive directory and Pick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3A2E-9587-4C7E-9298-DAC229292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Archive Mana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1643040"/>
            <a:ext cx="38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en Source projected hosted at Codeplex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odeplex.com/imf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ows us to Re-Submit or Delete Permanently Em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s reasonably well with up to 40,000 archived emai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4AA1-6EC7-4792-ADCC-698AF6F23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mage04_imfam.bmp"/>
          <p:cNvPicPr/>
          <p:nvPr/>
        </p:nvPicPr>
        <p:blipFill>
          <a:blip r:embed="rId2"/>
          <a:stretch/>
        </p:blipFill>
        <p:spPr>
          <a:xfrm>
            <a:off x="4286160" y="1785960"/>
            <a:ext cx="4500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F Compan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8400" y="1428840"/>
            <a:ext cx="485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 Archive Manager from stoekenbroek.com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toekenbroek.com/imfcompanion/default.ht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tter looking and more user friendly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ss effective when handling a large number of em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es not work with Exchange 2007/Windows 2008 User Access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ABBC-E910-4CE5-BDC7-D098163FD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mage05_imfcompanion.bmp"/>
          <p:cNvPicPr/>
          <p:nvPr/>
        </p:nvPicPr>
        <p:blipFill>
          <a:blip r:embed="rId1"/>
          <a:stretch/>
        </p:blipFill>
        <p:spPr>
          <a:xfrm>
            <a:off x="5357880" y="1428840"/>
            <a:ext cx="3405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rchive Management 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change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F Tune can be installed on Exchange 2007 Hub or Edge Transport Serv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sible platforms Windows 2003 and Windows 2008 ser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Exchange 2007 scenario combinations require the same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iguration is nearly identical to that in Exchange 2003 with some exceptions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inDeveloper Softwar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7F2F-1BBB-46A7-A108-DF8F8BDFC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2:54:22Z</dcterms:created>
  <dc:creator>Windows User</dc:creator>
  <dc:description/>
  <dc:language>en-US</dc:language>
  <cp:lastModifiedBy>Windows User</cp:lastModifiedBy>
  <dcterms:modified xsi:type="dcterms:W3CDTF">2009-02-20T18:43:07Z</dcterms:modified>
  <cp:revision>26</cp:revision>
  <dc:subject/>
  <dc:title>IMF Tune v4 Quarantine – Reviewing &amp; Resubmitting Archived Emails  </dc:title>
</cp:coreProperties>
</file>