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BB2-69F6-40E0-AF95-AF2C0ECA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D22-093D-4B27-AE1C-D2F5E87B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232-B98D-4898-8CBC-13478A38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6C3-D1EB-4FF0-96F6-756D2B5D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529-E26D-4D72-AC0B-08D719C7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DCC-1745-4944-B285-D6C6613B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176-D778-4435-A1AA-16D6148F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241-9DE8-43AA-B272-0CF46EFB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7B5-1D22-461B-AEA4-14AF0F15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64E-295D-4541-8AA8-F2EBA4A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63B-B7A9-4823-804F-7D21ECB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C72-0C03-4C58-BF7D-9713687C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AF2A-59A0-41E3-9813-0E0778033A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0A58-D952-40AF-BB65-9E51ECA15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38132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Boxrender Blau.png"/>
          <p:cNvPicPr/>
          <p:nvPr/>
        </p:nvPicPr>
        <p:blipFill>
          <a:blip r:embed="rId2"/>
          <a:stretch/>
        </p:blipFill>
        <p:spPr>
          <a:xfrm>
            <a:off x="0" y="1125360"/>
            <a:ext cx="6072120" cy="455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1640" y="1285920"/>
            <a:ext cx="407196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Running IMF Tune with the Exchange 2007 Content Fil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B7EC-34B7-494B-A853-74FE5BF79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ent Filter Agent 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figuring Filter Thresho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nabling the Junk Email Fol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talling IMF Tune v4 on Exchange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F075-A522-4784-BC05-424D2E181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ntent Filter Agent Install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transport agent that runs on the Edge or Hub server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stalled automatically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change 2007 Edge Server Ro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all Business Server 2008 Exchange Hub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stalled manually on Exchange 2007 Hub Transport using: Install-AntiSpamAgents.ps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2872-ED48-4B95-B0F6-FFE1B5772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figuring Filter Thresho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e Gateway Blocking Thresholds to Delete, Reject or Quarantine em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teway Blocking should be disabled when using IMF T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e Threshold for moving emails to Junk configurable through the shel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-OrganizationConfig -SCLJunkThreshold &lt;threshold level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D876-0F9B-49DD-A024-1E47B97CD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nabling Junk Email Fol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ch mailbox has its own Junk Folder Enablement swi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using MS Outlook 2003 or later, the Junk Folder is automatically enabled on opening the mailbox for the first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Enable/Disable Junk manu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g onto OWA and select: Options | Junk Email | Automatically Filter Junk Em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 use this scrip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gsexdev.blogspot.com/2007/07/turning-on-filter-junk-email-in.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AA48-969C-49FB-BEC3-951ADEAAA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talling IMF Tunev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214520"/>
            <a:ext cx="822960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hange 2007 requires IMF Tune v4 or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cesses emails immediately after the Conten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0B2D-2B19-446B-A020-90B503ED1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image00-imftuneplan.gif"/>
          <p:cNvPicPr/>
          <p:nvPr/>
        </p:nvPicPr>
        <p:blipFill>
          <a:blip r:embed="rId1"/>
          <a:stretch/>
        </p:blipFill>
        <p:spPr>
          <a:xfrm>
            <a:off x="1785960" y="1285920"/>
            <a:ext cx="5581800" cy="2695680"/>
          </a:xfrm>
          <a:prstGeom prst="rect">
            <a:avLst/>
          </a:prstGeom>
          <a:ln w="324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ent Filter Gateway blocking should be disabl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ving Gateway blocking to IMF Tune allow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ntralized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re consistent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rchiving of emails (even if rejec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pplying of more powerful filtering rules giving better filtering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07DC-55B5-4B86-B855-ABF251FA9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stalling IMF Tunev4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C56-A351-4776-BD1F-A4B788FA6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Homepage/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Video Tutori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windeveloper.com/imftune/tu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28760" y="4286160"/>
          <a:ext cx="8001000" cy="1189080"/>
        </p:xfrm>
        <a:graphic>
          <a:graphicData uri="http://schemas.openxmlformats.org/drawingml/2006/table">
            <a:tbl>
              <a:tblPr/>
              <a:tblGrid>
                <a:gridCol w="3894120"/>
                <a:gridCol w="4106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es/Licen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es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8:45:26Z</dcterms:created>
  <dc:creator>Windows User</dc:creator>
  <dc:description/>
  <dc:language>en-US</dc:language>
  <cp:lastModifiedBy>Windows User</cp:lastModifiedBy>
  <dcterms:modified xsi:type="dcterms:W3CDTF">2009-05-26T12:08:38Z</dcterms:modified>
  <cp:revision>24</cp:revision>
  <dc:subject/>
  <dc:title>IMF Tune v4 Quarantine – Reviewing &amp; Resubmitting Archived Emails  </dc:title>
</cp:coreProperties>
</file>