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425-033F-49EA-ACB5-3BC28159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939-47C3-43E1-BA3C-9DAD862E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C1E-45F7-495A-A692-9ECFC818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387-1665-4B06-AEDF-25C66757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C68-30D9-40B9-94D4-54FBDFD7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A91-E066-45B0-B166-2443064B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EA9-2967-49DF-94C2-4FC68665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83F-A57C-4797-B079-DBDFAFC2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99F-D841-4504-A5FF-860A2646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385-1224-4817-A7B7-65F25C18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DD5-04C5-459F-B79E-9A92C066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346-FDFD-433C-821C-75EF62A0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D57E-5564-461B-A6F3-3BB321DD43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1776-6CDD-4F45-99A1-36AB05508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38132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Boxrender Blau.png"/>
          <p:cNvPicPr/>
          <p:nvPr/>
        </p:nvPicPr>
        <p:blipFill>
          <a:blip r:embed="rId2"/>
          <a:stretch/>
        </p:blipFill>
        <p:spPr>
          <a:xfrm>
            <a:off x="0" y="1125360"/>
            <a:ext cx="6072120" cy="455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720" y="1285920"/>
            <a:ext cx="424800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o the IMF Tune Quarantine and Reporting Interfa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0515-9E86-4C77-96F7-6C28C6E50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tailed Spam Detection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ives more specific filtering information and an opportunity to improve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port head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re individual keywords perform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are the recipients getting most e-mai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are the recipients getting most sp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are the e-mails coming from (by IP)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15CB-B6A4-4041-9E41-DE63C68CB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etailed Spam Detection Report (contd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port headings (contd.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is the spam coming from (by IP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are the top e-mail send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are the top spam send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are the last 100 emails receiv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C1CD-1BE4-49CA-8C4A-867E16633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DAF6-6BBC-4E42-ACA2-772D83D5F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Tune Homepage/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windeveloper.com/imftun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nDeveloper Video Tutori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windeveloper.com/imftune/tuto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nDeveloper YouTube Chann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youtube.com/user/windevelope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8360" y="5373720"/>
          <a:ext cx="8001000" cy="822240"/>
        </p:xfrm>
        <a:graphic>
          <a:graphicData uri="http://schemas.openxmlformats.org/drawingml/2006/table">
            <a:tbl>
              <a:tblPr/>
              <a:tblGrid>
                <a:gridCol w="3894120"/>
                <a:gridCol w="4106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es/Licen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es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stem 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sic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orking with Quarantined Em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look at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48FA-A86C-4511-B24D-4757241AF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System Setu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4447800"/>
            <a:ext cx="822960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up of two main compon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F Tune Filtering Eng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derator/Reporting Web Ap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03CE-FC99-44D1-BB74-CBEAD6A4C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image05-imftuneplan.gif"/>
          <p:cNvPicPr/>
          <p:nvPr/>
        </p:nvPicPr>
        <p:blipFill>
          <a:blip r:embed="rId1"/>
          <a:stretch/>
        </p:blipFill>
        <p:spPr>
          <a:xfrm>
            <a:off x="2050920" y="1397160"/>
            <a:ext cx="4667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System Setup - Requirem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IS ASP.NET 2.0 Web Application installed on Windows 2003, 2008 or 2008 R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S SQL server database backend storing quarantines and repor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S SQL 2000, 2005, 2008, 2008 R2 and MS SQL Express 2005, 2008 are suppor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77C1-9E73-44E0-985A-3944071F5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onfigure Quarantine and Reporting from the IMF Tune server configuration interf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lect the Emails to be Quarantined from the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rchiving/Quarantin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categ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reate user logins and assign access rights from the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Quarantine | User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ateg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053D-1463-47A4-B80A-DD72A72B2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b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91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the browser op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&lt;web server&gt;/imft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6C0D-7E99-457F-BAD0-43E1965A9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mage06-emllist.png"/>
          <p:cNvPicPr/>
          <p:nvPr/>
        </p:nvPicPr>
        <p:blipFill>
          <a:blip r:embed="rId1"/>
          <a:stretch/>
        </p:blipFill>
        <p:spPr>
          <a:xfrm>
            <a:off x="539640" y="1557360"/>
            <a:ext cx="8020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arantine Mod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lter Quarantines by Subject, Body keywords, IP, Attachment names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manently Delete or Resubmit Em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Quarantine item information show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om, To, Subject, Body, Attachment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st of H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MTP Email Envel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eyword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F Tune Processing Det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75E9-5C8F-4986-98CE-98636DFDA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al Spam Detection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ives an overall picture of email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port head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e-mails were Accepted, Rerouted, Deleted, Rejected by IMF Tu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e-mails were Re-Submitted (Accepted) or Deleted at the Moderato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e-mails did each SCL rating match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ily e-mail load/sp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BBD-F146-46DC-997B-63A3DD74B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al Spam Detection Report (contd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port headings (contd.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ily SCL rating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y of week e-mail load/sp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ur of the day e-mail load/sp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5 hours e-mail load/spam per min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BACD-C933-4DBB-BDD6-018B2F473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8:45:26Z</dcterms:created>
  <dc:creator>Windows User</dc:creator>
  <dc:description/>
  <dc:language>en-US</dc:language>
  <cp:lastModifiedBy>Windows User</cp:lastModifiedBy>
  <dcterms:modified xsi:type="dcterms:W3CDTF">2010-09-02T08:20:53Z</dcterms:modified>
  <cp:revision>38</cp:revision>
  <dc:subject/>
  <dc:title>IMF Tune v4 Quarantine – Reviewing &amp; Resubmitting Archived Emails  </dc:title>
</cp:coreProperties>
</file>