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F878-2F41-4729-8906-929566940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B8FE-C434-43F1-95D2-0218259F7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0BBF-4FCA-477D-B965-1C11B802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F15-E09D-4AD8-B1FC-8D5EA591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F0F-8D07-4780-BCB5-5722E206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305C-6D4A-4DBE-93FF-EA3A6F63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55B9-60F1-431D-AC8B-A11E6C57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8DC-2F3A-4C8C-80A4-1D125252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802-627F-4FC2-ABE4-5FF2F70D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9E9-44D5-41C3-B314-5DAD78B5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A42-69F0-44E1-A13C-868687E1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0BD-59E2-4FBB-BF13-3AACF7F8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6AF-A95F-4F08-9859-CB5C8E7F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D88-713E-4915-8E76-F0DBD465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1504-3833-4992-8D3E-C6C42C622A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3201-DE07-4195-AFCA-4A71F5264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1640" y="856800"/>
            <a:ext cx="407196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inDeveloper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F Tu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639A-5FF2-4CC8-8CBA-AA8DC5E91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38132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Boxrender Blau.png"/>
          <p:cNvPicPr/>
          <p:nvPr/>
        </p:nvPicPr>
        <p:blipFill>
          <a:blip r:embed="rId2"/>
          <a:stretch/>
        </p:blipFill>
        <p:spPr>
          <a:xfrm>
            <a:off x="0" y="112536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ite/Black L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te/Black lists for IP, Sender, Recipient, Subject, Body and Attach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nguage (character set) black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nder and Recipient lists support the * wildcard: *@windeveloper.com, *@*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bject and Body lists support AND, OR, NOT operators and double qu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tch attachments by name or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3ACA-52E1-421B-8281-21F3106D4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tering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st all kind of email characteristics to selectively identify spam and legitimate em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ree Rule types: Simple, Advanced and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ule Actions: Whitelist, Blacklist, Set SCL to any value, Increment/Decrement current SCL r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06C3-D3C1-4CE1-BF3B-3E054EBB2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mple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posed of a condition/action 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st conditions against standard/custom headers, IPs, sender/recipient addresses, bodies and attach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ur possible matching oper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ader value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ader exact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eywords within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mpty/Missing H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501D-DD43-4657-BE21-33F538B00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ternal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ame as Simple Rules, but the values to be matched are retrieved from an external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at for integrating external white/black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ing shared drives, the file can be read by multiple IMF Tune instal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ssibility to integrate external sources of information (a script reading addresses from Active Directo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32D8-FF09-4A92-BE6D-8AEFF4307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dvanced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bine a number of conditions and exceptions into one r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ch condition/exception tests one piece of information (header, email address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l Conditions MUST match, but Exceptions MUST NOT match for the Action to be appl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ssibility to test email properties not available in IMF Tune from anywhere el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9247-57E7-4871-9EF5-A29CB87D4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dvanced Rules (Condition Typ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lter foreign spam by character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lock empty bodied PDF/Image sp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lter emails by attachment name, extension or MIME content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lter SMTP protocol data: IP, EHLO, MAIL FROM, RCPT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tch Custom Headers to integrate other spam filters into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DD9C-F1BB-419B-8314-A389E875F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TML Keyword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e exactly how emails are matching whitelists, blacklists and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port shows what is configured at IMF Tune and how this matched an 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739F-A120-4A93-A6BA-F14125610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k Mainte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process that controls disk consu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hedule for the compression and backup of Archived Emails, Quarantine, CSV logs and HTML Keyword Re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utomatic deletion of old Back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188D-1927-420E-982B-4573319A9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F Tune Homepage/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windeveloper.com/imftun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nDeveloper Video Tutori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windeveloper.com/imftune/tutor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nDeveloper YouTube Chann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youtube.com/user/windeveloper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3F71-F3B0-46CA-BA4F-4636C754A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5373720"/>
          <a:ext cx="8001000" cy="822240"/>
        </p:xfrm>
        <a:graphic>
          <a:graphicData uri="http://schemas.openxmlformats.org/drawingml/2006/table">
            <a:tbl>
              <a:tblPr/>
              <a:tblGrid>
                <a:gridCol w="3894120"/>
                <a:gridCol w="4106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es/Licens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es@windeveloper.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@windeveloper.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IMF Tu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414972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ti-spam product building on top of the Exchange 2003, 2007, 2010 built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lligent Message Filter (IMF)/Conten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E5B8-0448-4CA8-A2CE-0A75CEA6D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image00-imftuneplan.gif"/>
          <p:cNvPicPr/>
          <p:nvPr/>
        </p:nvPicPr>
        <p:blipFill>
          <a:blip r:embed="rId1"/>
          <a:stretch/>
        </p:blipFill>
        <p:spPr>
          <a:xfrm>
            <a:off x="1476360" y="1552680"/>
            <a:ext cx="58482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ick Look at Exchange 2007/2010 Content Filter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987A-6F25-4EE0-96CD-3E8177743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642960" y="1785960"/>
            <a:ext cx="4186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ent Filter and IMF Tune must be run on Edge or Hub Transpor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ent Filter assigns initial SCL, IMF Tune updates this 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ent Filter Delete, Reject and Quarantine actions should be kept disabled. Perform gateway blocking at IMF T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ontent Placeholder 11" descr="image01-ex2007_imf.bmp"/>
          <p:cNvPicPr/>
          <p:nvPr/>
        </p:nvPicPr>
        <p:blipFill>
          <a:blip r:embed="rId1"/>
          <a:stretch/>
        </p:blipFill>
        <p:spPr>
          <a:xfrm>
            <a:off x="4929120" y="1860480"/>
            <a:ext cx="34290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and Exchange 2003 IM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1500120"/>
            <a:ext cx="400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F is included with Exchange 2003 SP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F assigns the initial SCL. IMF Tune updates this r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eep IMF gateway blocking to No Action. Perform gateway blocking at IMF Tu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B62D-33C7-44C1-B1B1-0CE45F91D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image02-ex2003_imf.bmp"/>
          <p:cNvPicPr/>
          <p:nvPr/>
        </p:nvPicPr>
        <p:blipFill>
          <a:blip r:embed="rId1"/>
          <a:stretch/>
        </p:blipFill>
        <p:spPr>
          <a:xfrm>
            <a:off x="4929120" y="1643040"/>
            <a:ext cx="343872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F Tune Function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ultiple Threshold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mail Disk Archive &amp; Quaran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V Log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uto-Re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arious Whitelists, Black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mple, Advanced and External SCL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ML Keyword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k Mainte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165E-819C-403B-B767-84B4ED289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ple Threshold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0DB0-1B51-4CFB-BD98-5CF1DB21E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428760" y="14288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up any number of threshold actions to identify how emails are to be handl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shold range includes SCL 0 to 9, Whitelisted, Blacklisted and Unprocessed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pt &amp; move to J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route to Central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age03-thresholds.bmp"/>
          <p:cNvPicPr/>
          <p:nvPr/>
        </p:nvPicPr>
        <p:blipFill>
          <a:blip r:embed="rId1"/>
          <a:stretch/>
        </p:blipFill>
        <p:spPr>
          <a:xfrm>
            <a:off x="5003640" y="1557360"/>
            <a:ext cx="37436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ple Threshold Actions (contd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selection of additional email modific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sertion of SCL in Subject/X-SCL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ttachment Strip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sertion of Email information in Custom H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0F4D-BC45-48AB-ABF3-84B3225FE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k Archiving &amp; Quarant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matter how emails are handled a copy can be saved to the Arch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en Rejected Emails may be Archiv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Quarantine publishes emails through an IIS Web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view/Resubmit quarantines from brow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ly Archived emails may be published at the Quaran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A977-868C-44CD-A5BC-81A48FF48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SV Log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cord key information on processed emails including email addresses, subject, IP, SCL and applied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ndard CSV format for easy import to MS Excel and MS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eak logs by date, file size and SCL r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82BC-FA85-41DF-B113-806E0EE8D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9:34:02Z</dcterms:created>
  <dc:creator/>
  <dc:description/>
  <dc:language>en-US</dc:language>
  <cp:lastModifiedBy/>
  <dcterms:modified xsi:type="dcterms:W3CDTF">2010-09-12T08:57:35Z</dcterms:modified>
  <cp:revision>94</cp:revision>
  <dc:subject/>
  <dc:title/>
</cp:coreProperties>
</file>