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3733A-A160-4A9B-A4E3-55CAF1401A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39019-8995-4F5C-A873-C3FD593E35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5BD1-91BD-4C0F-BE65-9A2F1A4FF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5B51-CE3E-4E17-9781-EB724D100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EDA6-49D1-4C6E-8EA5-F38F16490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1058-DE3D-4C04-90DD-2B1DB5D41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4551-4473-4A0B-896E-1920747CA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DBDC-62BC-4C08-9A5E-0F02BB5C1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29AA-1081-49C9-96B9-368E724D2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5C07-969B-444F-962C-1D0AC116B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746A-7A50-4925-9AD2-F66B1119F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43B9-CCB1-47B8-8D27-30CEA640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CBB8-0178-4271-982B-4BD89EEE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0CA2-127C-493F-8B8E-6B5838B1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7F650-70DD-4344-9474-FB170608251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inDeveloper Software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426A5-097C-4A0F-8E5C-FD2B0205EE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1640" y="1197000"/>
            <a:ext cx="4071960" cy="400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tegrating Foreign Spam Filters into Exchange 2003/2007/20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E3A21-336B-493D-981A-B1A6EC9845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inDeveloper Software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1381320" cy="476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Boxrender Blau.png"/>
          <p:cNvPicPr/>
          <p:nvPr/>
        </p:nvPicPr>
        <p:blipFill>
          <a:blip r:embed="rId2"/>
          <a:stretch/>
        </p:blipFill>
        <p:spPr>
          <a:xfrm>
            <a:off x="0" y="1125360"/>
            <a:ext cx="6072120" cy="45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tegration Probl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00040" y="4149720"/>
            <a:ext cx="8229600" cy="21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f Exchange does not understand the custom headers inserted by a Spam Filter, spam ends up deposited to the Recipient Inbo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39807-6DF7-4470-BDB8-1C19C4C1A5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inDeveloper Software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image00_problem.gif"/>
          <p:cNvPicPr/>
          <p:nvPr/>
        </p:nvPicPr>
        <p:blipFill>
          <a:blip r:embed="rId1"/>
          <a:stretch/>
        </p:blipFill>
        <p:spPr>
          <a:xfrm>
            <a:off x="324000" y="1420920"/>
            <a:ext cx="845964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00040" y="4149720"/>
            <a:ext cx="8229600" cy="21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MF Tune converts Foreign Filter spam ratings to the native Exchange spam rating syste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CL - Spam Confidenc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0D347-C92B-49A8-933A-60BC38249D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inDeveloper Software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image01_solution.gif"/>
          <p:cNvPicPr/>
          <p:nvPr/>
        </p:nvPicPr>
        <p:blipFill>
          <a:blip r:embed="rId1"/>
          <a:stretch/>
        </p:blipFill>
        <p:spPr>
          <a:xfrm>
            <a:off x="324000" y="1268280"/>
            <a:ext cx="845964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change Set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39640" y="2060640"/>
            <a:ext cx="8229600" cy="38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nable the Exchange anti-spa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xchange 2003 IMF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xchange 2007/2010 Content Fil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isable other Exchange built-in filters (sender block list, recipient block list etc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isable any Gateway Blocking 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et the Junk Folder Thresh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6E38D-7CC8-4563-B501-FA5940B6AE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inDeveloper Software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5"/>
          <p:cNvSpPr/>
          <p:nvPr/>
        </p:nvSpPr>
        <p:spPr>
          <a:xfrm>
            <a:off x="468360" y="1413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lution applicable to Exchange 2003/2007/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change 200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inimum Requirement Exchange 2003 SP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rom the Exchange System Manager, Global Settings | Message Delive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ateway Action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No A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Junk Threshold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nable IMF from Exchange System Manager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&lt;Organization&gt; | Servers | &lt;Exchange Server&gt; | Protocols | SMTP | &lt;SMTP Virtual Server&gt; | Advanced | Edit |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pply Intelligent Message Fil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inDeveloper Software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647AC-08C0-4670-A5D5-5C4777FB66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change 2007/20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un the Content Filter on the first Hub/Edge transport handling internet ema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On Edge Server 2007/2010 and SBS2008 Content Filter is readily install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On Hub Transport install manually from the Exchange Management Shell us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stall-AntiSpamAgents.ps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inDeveloper Software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18DFA-9EB6-4339-8C0D-C806B0C6DE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change 2007/2010 (contd.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nfigure Anti-Spam filters from the Management Console unde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dge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dge Transport | Anti-Sp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ub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ganization | Hub Transport | Anti-Sp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isable all anti-spam EXCEPT for the Content Fil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isable Reject/Delete/Quarantine actions at the Content Fil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et the Junk Threshold to 6 from the Exchange Management Shell usi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et-OrganizationConfig -SCLJunkThreshold 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inDeveloper Software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34E3E-2D95-40FA-85E9-C267A513E6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MF Tune 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stall IMF Tune on the same server where the Exchange anti-spam is run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reate Simple SCL Rules to match Foreign Filter custom headers or Subject ta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reate Advanced SCL Rule to match legitimate emails in case of Subject tag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eliver spam to the Junk Fol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nfigure rules matching spam to set SCL t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1 + Junk Folder Thresho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inDeveloper Software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95615-958B-4093-9D8D-EFCD659655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in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MF Tune Homepage/Downloa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ttp://www.windeveloper.com/imftun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inDeveloper Video Tutoria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ttp://www.windeveloper.com/imftune/tutor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inDeveloper YouTube Channe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ttp://www.youtube.com/user/windeveloper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inDeveloper Software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BCE55-49A2-4B98-AB77-EDD1DC7917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68360" y="5373720"/>
          <a:ext cx="8001000" cy="822240"/>
        </p:xfrm>
        <a:graphic>
          <a:graphicData uri="http://schemas.openxmlformats.org/drawingml/2006/table">
            <a:tbl>
              <a:tblPr/>
              <a:tblGrid>
                <a:gridCol w="3894120"/>
                <a:gridCol w="41068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les/Licensing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ales@windeveloper.co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cal Support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pport@windeveloper.co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5T09:34:02Z</dcterms:created>
  <dc:creator/>
  <dc:description/>
  <dc:language>en-US</dc:language>
  <cp:lastModifiedBy/>
  <dcterms:modified xsi:type="dcterms:W3CDTF">2010-09-17T10:44:38Z</dcterms:modified>
  <cp:revision>105</cp:revision>
  <dc:subject/>
  <dc:title/>
</cp:coreProperties>
</file>