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265A-A3F6-4330-A53B-AF0507710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6454-10FC-490F-B356-6F962869A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D55A-B327-4C8E-BA63-58A1F98E5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3927-5939-4A37-B70E-87346CFAF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3A39-FEA2-406C-A08D-3B43CE106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1677-34ED-4F04-98C3-4196D5A3B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FEC8-11F7-424E-B7C6-54D92FF40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26A8-4811-491D-9FEF-0DA847EA7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3B64-A5AB-43ED-8CF2-0325F77F4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CDF9-BC66-4661-B736-5A84E5B30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82EC-7B16-4506-9F49-BD361084C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AD09-B672-41E5-AA22-800E47853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E27D-9272-4315-85AB-8AB2A62CD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9D1-0F24-4268-B84F-E88E8335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232-D835-4C8E-8E37-B34BD79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C37-A2F5-47D9-BD93-04A9C433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C49-1F45-4998-A20E-B0AD930F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23E-DDE5-41FB-8373-BAFF797B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8DC-6E02-44E0-B337-144B344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037-F96C-4154-9BB1-539254A7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426-76E6-4019-92F8-E7DA494F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21E-A898-4EDC-9D92-323EDB4B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8CF-961F-4187-9B27-406A7F4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F0D-ABEE-4E02-9854-C6039F2E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DBD-AE6B-4FB4-8D72-B41F611F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C17D-80AA-4AAC-9138-5E55015DD6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36A-A936-47FA-A7BD-D58014A7E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1640" y="1197000"/>
            <a:ext cx="407196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Tune Quarantine &amp; Reporting – Running SQL behind a Fire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3E4E-DF1A-4F51-A512-C2E9D26CF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38132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oxrender Blau.png"/>
          <p:cNvPicPr/>
          <p:nvPr/>
        </p:nvPicPr>
        <p:blipFill>
          <a:blip r:embed="rId2"/>
          <a:stretch/>
        </p:blipFill>
        <p:spPr>
          <a:xfrm>
            <a:off x="0" y="112536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S SQL 2000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nimum version MS SQL 2000 SP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ee MSDE Database is NOT suppo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QL 2000 includes the SQL Server Resolution Protocol (SSRP) instead of Browser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SRP runs within the SQL Server Service and binds to UDP 14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irm TCP/IP is enabled fro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rver Network Utility |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7B49-F005-4053-A09D-43DF7E1C3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tes for MS SQL 2000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erify and set SQL Server port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rver Network Utility | General | TCP/IP &lt;properties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erify both SQL and Windows Authentication are allowed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terprise Manager | Server Properties | 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t the SA login password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terprise Manager | Security | Logins | SA &lt;properties&gt; |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no SA login enablement swi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9BA9-C1ED-43E8-AFBA-A674EFD2B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Tune Databas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stall the IMF Tune Quarantine &amp; Reporting Compo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llowing the installation complete the Database Connection Wiz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Wizard fails, restart this from the newly installed application Program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 the IMF Tune server configuration, register the server with the Quarantine Database to enable uploading of emai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4181-91C4-4D7E-8E07-786817C47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l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 IMF Tune, enter the SQL Server name manual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UDP 1434 is not o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running  SQL 2005/2008 and the SQL Browser Service is not sta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 the IMF Tune server and MS SQL are not on the same dom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SQL Server Machine name must be resolvable via DNS, otherwise use the SQL Server machine 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SQL Authentication (for example the SA account) for registering the IMF Tune 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0370-48A9-44BA-84E7-D4ABE0219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Homepage/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eveloper Video Tutori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tu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nDeveloper YouTube Chann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youtube.com/user/windevelope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BEF7-7A7F-4B9F-AFC3-0978ED8F7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5373720"/>
          <a:ext cx="8001000" cy="822240"/>
        </p:xfrm>
        <a:graphic>
          <a:graphicData uri="http://schemas.openxmlformats.org/drawingml/2006/table">
            <a:tbl>
              <a:tblPr/>
              <a:tblGrid>
                <a:gridCol w="3894120"/>
                <a:gridCol w="4106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es/Licen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es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sic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557360"/>
            <a:ext cx="43610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Quarantine &amp; Reporting Web Interface must be installed on the same Windows Domain as the SQL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1B56-3826-4461-B5D2-7405D5A84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IMF Tune Plan.gif"/>
          <p:cNvPicPr/>
          <p:nvPr/>
        </p:nvPicPr>
        <p:blipFill>
          <a:blip r:embed="rId1"/>
          <a:stretch/>
        </p:blipFill>
        <p:spPr>
          <a:xfrm>
            <a:off x="4727520" y="1467000"/>
            <a:ext cx="3876840" cy="2466720"/>
          </a:xfrm>
          <a:prstGeom prst="rect">
            <a:avLst/>
          </a:prstGeom>
          <a:ln w="0">
            <a:noFill/>
          </a:ln>
        </p:spPr>
      </p:pic>
      <p:sp>
        <p:nvSpPr>
          <p:cNvPr id="58" name="Content Placeholder 2"/>
          <p:cNvSpPr/>
          <p:nvPr/>
        </p:nvSpPr>
        <p:spPr>
          <a:xfrm>
            <a:off x="468360" y="4149720"/>
            <a:ext cx="8207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F Tune Server can be installed on a different domain or a machine that is not part of any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MS SQL versions 2000, 2005, and 2008 are supported. Including SQL Express 2005 and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S SQL Default In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ly one SQL Default Instance can be installed per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 IMF Tune connect to a Default SQL Instance us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lt;Machine name &gt;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lt;IP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fault SQL Instance binds to TCP port 14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ADFE-D7E1-4F77-A819-F805420F3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S SQL Named Inst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 can have multiple SQL Named Instances per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 IMF Tune connect to a Named Instance u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lt;Machine Name&gt;\&lt;Instance Name&gt;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lt;IP&gt;\&lt;Instance Nam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med SQL Instances bind to a TCP port selected dynamically on start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CEE5-8C52-4C23-A086-445D17312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al MS SQL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able SQL Server TCP/IP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sure SQL is binding to a fixed 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ault SQL Instance uses TCP 14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ign Named SQL Instances a port manually (typically 1433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able the SQL Browser Service (especially in case of SQL Named Instan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sure both SQL and Windows Authentication are allow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C1F1-3697-4BD8-ADA8-45CEF63B5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al MS SQL Config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ptionally enable SA login to facilitate IMF Tune server registration in DMZ configu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pen Ports at the firewa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ault SQL Instance Port: TCP 14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amed SQL Instance Port: TCP &lt;# set in step 2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QL Browser Service Port: UDP 143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tart  SQL Server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BCD6-AF9F-42DE-B1D5-F81157EA7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S SQL 2008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able TCP/IP and set SQL Server port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QL Server Configuration Manager | SQL Server Network Config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able and start SQL Browser Service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QL Server Configuration Manager | SQL Server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erify both SQL and Windows Authentication are allowed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QL Server Management Studio | Server Properties | 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1B2D-7537-40D4-97F1-15767F012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S SQL 2008 Details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t the SA login password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QL Server Management Studio | Security | Logins | SA &lt;properties&gt; |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able SA login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QL Server Management Studio | Security | Logins | SA &lt;properties&gt; |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67D4-245C-4481-8378-8EC9D211C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S SQL 2005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ame as for SQL 2008 except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QL 2005 Express the SQL Server Management Studio is a separate down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able TCP/IP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QL Server Surface Area Config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672C-0244-4B78-AB71-80FC5427E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9:34:02Z</dcterms:created>
  <dc:creator/>
  <dc:description/>
  <dc:language>en-US</dc:language>
  <cp:lastModifiedBy/>
  <dcterms:modified xsi:type="dcterms:W3CDTF">2010-09-29T19:51:45Z</dcterms:modified>
  <cp:revision>127</cp:revision>
  <dc:subject/>
  <dc:title/>
</cp:coreProperties>
</file>